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1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621-E5BB-4C8F-B69D-0210AD27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322-9042-4D39-9747-40B9C121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413-01B9-4B96-9AB2-81E93917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B21-56C1-4346-B937-8C0CEA51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4622-1ED2-49AC-9637-7D05566C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3FF4-BE71-4775-8F9A-7E10C0E2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F7E-EC48-4DE2-A897-7FF0DA20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95E-E3BC-4DEA-8DCA-DC153D5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F66C-E08E-4623-A264-3D62C71D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71FC-CA78-4F3D-A096-AFF9984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C8E-04F5-4B2A-9A9D-BE4650F4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43B-9D40-454F-B140-9CF779E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51F8-0585-4363-8B41-97C6A5A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76F-B965-4F16-AEA7-2E3976E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0D4-A324-43DC-BDA0-1C8D8C2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701A-1B47-413B-9FC1-F5CD13CF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E3BA-8088-46B8-B522-D342F14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D3F-E632-4D43-9BD3-8D36846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BFC-2893-49A0-BBBB-C82DF644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C79-F245-4651-951C-B2C0A41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A1D-309B-435E-AE95-7BED14A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D3A-15ED-4B75-8A95-1EEFA7B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403-FB51-4A89-9D2B-1BCA657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614-1CA6-4ADB-9944-D77D065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8E9-0DF9-4081-8C43-D5F1D4C989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1D91-C95B-4221-916D-3377D46116E8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image" Target="../media/image11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image" Target="../media/image11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2133720"/>
            <a:ext cx="7650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3333cc"/>
                </a:solidFill>
                <a:latin typeface="Garamond"/>
              </a:rPr>
              <a:t>ÖĞRENMENİN OLUŞUMU</a:t>
            </a:r>
            <a:endParaRPr b="1" lang="en-US" sz="4400" spc="1" strike="noStrike">
              <a:ln w="9360">
                <a:solidFill>
                  <a:srgbClr val="ff99ff"/>
                </a:solidFill>
                <a:miter/>
              </a:ln>
              <a:solidFill>
                <a:srgbClr val="3333cc"/>
              </a:solidFill>
              <a:latin typeface="Garamond"/>
              <a:ea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76640"/>
            <a:ext cx="432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Hazırlay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Biriz Kutoğ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Program Geliştirme Uzman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y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sel bir süreç olduğund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özlemlenemeyecek bir olay olarak açıklamakta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daha çok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Alg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Yaratıcılı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atırlama ile ilgileni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7621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İLİŞSEL KURAM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00400" y="304920"/>
            <a:ext cx="5562720" cy="1676160"/>
          </a:xfrm>
          <a:prstGeom prst="wedgeEllipseCallout">
            <a:avLst>
              <a:gd name="adj1" fmla="val -60444"/>
              <a:gd name="adj2" fmla="val 59754"/>
            </a:avLst>
          </a:prstGeom>
          <a:solidFill>
            <a:srgbClr val="ff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779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Bu iki yaklaşım birbirine zıt gibi görünmekle birlikte, 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öğrenmenin farklı boyutlarını açıkladıkları için 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birbirlerini tamamlar niteliktedir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914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Garamond"/>
              </a:rPr>
              <a:t>Davranışçı + Bilişsel = ÖĞRE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15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5334120"/>
            <a:ext cx="121932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Pav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84400" y="2057400"/>
            <a:ext cx="1828800" cy="99072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057400"/>
            <a:ext cx="1828800" cy="9144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1981080" cy="1676520"/>
          </a:xfrm>
          <a:prstGeom prst="diamond">
            <a:avLst/>
          </a:prstGeom>
          <a:solidFill>
            <a:srgbClr val="00ccff"/>
          </a:solidFill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Garamond"/>
              </a:rPr>
              <a:t>DAVRANIŞÇ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124080"/>
            <a:ext cx="1900080" cy="1600200"/>
          </a:xfrm>
          <a:prstGeom prst="diamond">
            <a:avLst/>
          </a:prstGeom>
          <a:solidFill>
            <a:srgbClr val="99cc00"/>
          </a:solidFill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Garamond"/>
              </a:rPr>
              <a:t>BİLİŞ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0" cy="9144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1080" y="4724280"/>
            <a:ext cx="37800" cy="106704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392436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10080"/>
            <a:ext cx="121932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Sk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5867280"/>
            <a:ext cx="1218960" cy="6858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hornd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5334120"/>
            <a:ext cx="12193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cc"/>
                </a:solidFill>
                <a:latin typeface="Tahoma"/>
              </a:rPr>
              <a:t>Bilgiy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cc"/>
                </a:solidFill>
                <a:latin typeface="Tahoma"/>
              </a:rPr>
              <a:t>işl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5791320"/>
            <a:ext cx="121932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e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410080"/>
            <a:ext cx="121896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est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52280"/>
            <a:ext cx="7619760" cy="1828800"/>
          </a:xfrm>
          <a:prstGeom prst="diamond">
            <a:avLst/>
          </a:prstGeom>
          <a:solidFill>
            <a:srgbClr val="ffff99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KURA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286000"/>
            <a:ext cx="1752480" cy="1600200"/>
          </a:xfrm>
          <a:prstGeom prst="diamond">
            <a:avLst/>
          </a:prstGeom>
          <a:solidFill>
            <a:srgbClr val="ffcf01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Bilişs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ağırlıkl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Davranışç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kuram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3276720"/>
            <a:ext cx="0" cy="8380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276720"/>
            <a:ext cx="0" cy="8380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191120"/>
            <a:ext cx="914400" cy="609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o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191120"/>
            <a:ext cx="99036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Ban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6019920"/>
            <a:ext cx="525240" cy="628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480060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048120" y="617220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1481040" y="3032280"/>
            <a:ext cx="6181560" cy="793440"/>
            <a:chOff x="1481040" y="3032280"/>
            <a:chExt cx="6181560" cy="793440"/>
          </a:xfrm>
        </p:grpSpPr>
        <p:sp>
          <p:nvSpPr>
            <p:cNvPr id="153" name=""/>
            <p:cNvSpPr/>
            <p:nvPr/>
          </p:nvSpPr>
          <p:spPr>
            <a:xfrm>
              <a:off x="1481040" y="3032280"/>
              <a:ext cx="4722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1040" y="3032280"/>
              <a:ext cx="6181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0" lang="en-US" sz="4600" spc="-1" strike="noStrike">
                  <a:solidFill>
                    <a:srgbClr val="333333"/>
                  </a:solidFill>
                  <a:latin typeface="Arial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 kuramlarından her biri farklı bir öğrenme türünü açıkladığından, hiçbir öğrenme kuramı bütün öğrenme türlerini ve öğrenmeye ilişkin tüm soruları açıklamaya ve çözmeye yeterli değil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Program Geliştirme çalışmaları ve öğretim sürec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 türün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lerin özelliklerin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lginin türüne göre her kuram grubundan ilkeleri kapsamak durumund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vlov, Tolman, Thorndike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 yaparak öğr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Tekrarın önemi büyüktü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oğru davranış pekişti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üdüleme öğrenmeyi büyük ölçüde etki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96252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ff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Hazırbulunuşl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5486400"/>
            <a:ext cx="175284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ff0000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Pekişti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648320"/>
            <a:ext cx="1752840" cy="9144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2feef3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Den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anı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64832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6b92f3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ek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4191120"/>
            <a:ext cx="76212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10080" y="5791320"/>
            <a:ext cx="60984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742840" y="5715000"/>
            <a:ext cx="60948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4191120"/>
            <a:ext cx="68580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9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stalt,Ausubel,Köhler 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eriğin düzenlenmesi, öğeler ve öğeler arası ilişkilerin açıklanması ço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erik basitten karmaşığa doğru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Ezber yerine kavramlar ilişkilendi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Kavramlar öğrenciye bulduru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önüt ve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azırbulunuşlu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00e4a8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Hazırbulunuşl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814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ff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Dönü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2578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İçer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1828800" cy="91440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724280"/>
            <a:ext cx="60948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86040" y="6172200"/>
            <a:ext cx="60948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6171840"/>
            <a:ext cx="6094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4723920"/>
            <a:ext cx="60948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iaget, Dollard, Miller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edef-davranışlar öğrencilerin yeteneğine göre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nin doğumdan sonraki fiziksel ve kültürel gelişimi ço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, öğrencinin içinde bulunduğu kültürel çevrede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nin kaygı düzeyi, öğrenmeyi olumlu ya da olumsuz etkiler.Güdüleme bu boyutta etki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, ilgi duyduğu alanda daha başarılı ol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rupla çalışma, yarışma, işbirliği gibi öğrenme teknikleri, öğrenmeyi etkileyen değişkenlerde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agne, Nevell, Briggs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ikkati çek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Hedeften haberdar e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n öğrenmelerin hatırlatı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Uyarıcı araç-gerecin sunu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Rehberlik e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avranışın gözlen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önüt ve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eğerlend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alıcığı sağlama ( Tekrar ve uygulama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onald Hebb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, fiziksel uyarımlar sonucu beyinde oluşan, biyo-kimyasal bir değişme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Uyarılma ve dikkat etki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Uyarıcı zenginliği ve çevre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96252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e4a8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Çocuklukta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40384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etişkinlikt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57240" y="3429000"/>
            <a:ext cx="68580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3429000"/>
            <a:ext cx="76176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9528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638680"/>
            <a:ext cx="1676160" cy="9144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e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638680"/>
            <a:ext cx="1676160" cy="91440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6b92f3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aratıcı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502920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ell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1905120"/>
            <a:ext cx="2667240" cy="1295280"/>
          </a:xfrm>
          <a:prstGeom prst="ellipse">
            <a:avLst/>
          </a:prstGeom>
          <a:gradFill rotWithShape="0">
            <a:gsLst>
              <a:gs pos="0">
                <a:srgbClr val="cc00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uyu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3352680"/>
            <a:ext cx="2666880" cy="129564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6b92f3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ısa Sür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276720"/>
            <a:ext cx="266688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zun Sür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438280"/>
            <a:ext cx="838080" cy="6858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14800" y="3809880"/>
            <a:ext cx="13716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038480" y="4343400"/>
            <a:ext cx="15782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057400" y="837720"/>
            <a:ext cx="5827680" cy="52578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 Ned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nin Özellik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nin Oluşu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Kalıcı Öğren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Uzun Süreli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Kısa Süreli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Anısal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Unut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Bilgiyi Geri Getirme Yollar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55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ellek Tür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85800"/>
          <a:ext cx="8686800" cy="6010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zellik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yusal 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ısa Sür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zun Sür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 giriş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Çevredeki tüm uyarıcı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kkat ve seçici algı süzgecinden geçen bil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ısa süreli bellekte tekrar edilen ve kodlanan bil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nin kalış sü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arım sn.den 4 saniyeye k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krar edilmediğinde 20 s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ürek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asit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rsı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Çok küçüktü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rsı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nin biç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ınan uyarıcının kopyas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özel,görsel ve anlam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lamsal,görse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ema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riye get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ümkün değ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krar etme ve otomatiklikle anında geriye get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İpuçlarına,temsil etme ve örgütlemeye bağlıdı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Öğrenmenin Kalıcılığı </a:t>
            </a:r>
            <a:br>
              <a:rPr sz="3200"/>
            </a:b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ve</a:t>
            </a:r>
            <a:br>
              <a:rPr sz="3200"/>
            </a:b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Belleklerin işleyiş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uyusal belleğe gelen duyusal sinyaller taranarak önemli olanlar kısa süreli belleğe akta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u nedenle, öğrencilere kazandırılacak davranışlarla ilgili uyarıcılar,onların dikkatlerini çekecek biçimde hazırlanmalıd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ısa süreli bellekteki bilgiler, zihinsel tekrar sürdükçe ka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Aksi takdirde 18.saniyeden sonra bilgiler büyük ölçüde kaybo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lerin daha uzun süreli hatırlanması için kısa süreli bellekten uzun süreli belleğe aktarılması gerek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lerin kısa süreli bellekten uzun süreli belleğe aktarılması en az 5-10 dakika sür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En iyi düzeyde kalıcılık ise 1 saat içinde meydana ge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sırasında, bir konudan diğer bir konuya geçerken öğrencilere tekrar için zaman veril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Çünkü beynin özellikle yeni kazanılan bilgilere tekrar eğilimi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unun için sunulan uyarıcının dikkati çekmesi ve önemli olması gerek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99ff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TEK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inlenmiş zihin, yorgun bir zihne göre kalıcı öğrenmeyi daha çok sağ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ersler, öğrenciye zihinsel dinlenmeyi sağlayacak etkinlikler planlanmalıd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b92f3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DİNLEN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lgileri kısa süreli bellekten uzun süreli belleğe geçirmede önemli olan noktalardan biri de bilginin kodlanarak uzun süreli belleğe gönderilmes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Kodlama ( anlamlandırma )işlemi sırasında, öğrenilen eski bilgilerin hatırlanması ve yeni bilgilerin eskilerle ilişkilendirilmesi, yeni bilgilerin işlenmesini ve hatırlanmasını kolaylaştırmakt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yeni bilgilerle ilişkili olan öğrencinin eski bilgilerini hatırlaması sağlayıcı etkinlikler düzenlenmesi bilginin kalıcı olmasını sağlayac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ffcf01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HATIRLAT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NU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182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Gereksiz bilginin uzun süreli belleğe gönderilmesi; uzun süreli belleğin bilgi çöplüğü haline dönüşmemesi için gerekli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Ancak okul hayatında gerekli olan bilgilerin unutulma olasılığının bulunması, unutmaya karşı bazı önlemlerin alınmasını gerekti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Unutma, duyusal kayıt ve kısa süreli bellekte meydana gelmekte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ısa süreli belleğe algılanarak gelen bilgi tekrar edilmediği ya da anlamlandırılmadığı zaman unutulmaktad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BİLGİYİ GERİ GETİRME YOLLA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nin öğrenildiği durumun, yani bilgiyi kodlayıp uzun süreli belleğe göndermede kullandığımız ipuçlarının , bilgiyi geri getirmede can alıcı bir yere sahip olması eğitim açısından önemli doğurgulara sahip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Eğer, öğrenme sırasında öğrencilerin bilgiyi zengin, geniş kapsamlı, çok yönlü ipuçlarıyla kodlaması sağlanırsa, gerektiğinde bilgiye ulaşmaları ve geri getirmeleri de o kadar kolay olacak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ürünlerinin tipi de bilgiyi geri getirmede önem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rneğin, psikomotor beceriler bilişsel öğrenmelere göre daha kolay hatır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avramlar ve ilkeler de daha kolay hatırlanmaktadır.Çocuklukta öğrenilen kavramlar hayat boyu kullanıldığı için kalıcılığı güç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Oysa ülkelerin başkentleri, tarihi olayların günleri sürekli kullanılmadığı için kolay unutu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sırasında, öğrenci ne kadar çok duyu organını kullanırsa bilgiyi çok yönlü olarak kodlayabilir ve geri getirme düzeyi o denli yükse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6668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NEDİ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üyüme ve vücutta değişik etkilerle oluşa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Geçici değişmelere atfedilmeyecek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Yaşantı ürünü olarak meydana gele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avranışlardaki nispeten, kalıcı iz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eğişme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120600"/>
            <a:ext cx="1752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Özellik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 gözlenebilir bir değişme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nispeten sürekli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yaşantı sonucunda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yorgunluk, hastalık, ilaç alma vb.etkenlerle geçici bir biçimde meydana gelme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sadece büyüme sonucunda oluşma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Davranıştaki değişmenin nispeten sürekli olması ne demektir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Yapılan araştırmalar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reylere anlamsız heceler gibi alışılmadık bilgiler sunulduğunda ve zihinsel tekrar imkanı verilmediğinde, deneklerin bu bilgiyi aşağı yukar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3 saniyede hatırlayabild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nu izleyen 15 saniyede ise bilginin hatırlanamaz hale geldiği gözlemlenmiş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kadar kısa sürede bilgi yok olmakla birlikte öğrenmenin hiç oluşmadığını söylemek mümkün değildir.Bu nedenle öğrenmenin tanımında davranıştaki değişmenin nispeten sürekli olması ifadesi kullanılmaktadır</a:t>
            </a: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u değişmenin içgüdüsel ya da refleksif olmamas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Yaşantı sonucu kazanılmış olmas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Nispeten kalıcı izli olması gerekmekte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049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Davranıştaki değişikliğ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diyebilmek içi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Oluş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nin hangi koşullar altında oluşacağını ya da oluşmayacağını, öğrenme kuramları açıkla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r öğrenme kuramının, genelde tüm organizmalarda, tüm öğrenme birimlerinde, okul içinde ve dışındaki tüm durumlarda nasıl oluştuğunu açıklaması beklenir.Ancak tüm öğrenme durumlarını açıklayabilen tek bir öğrenme kuramı henüz yok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49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28800" y="304920"/>
            <a:ext cx="579132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KURA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590560" y="2438280"/>
            <a:ext cx="106668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514600"/>
            <a:ext cx="1066680" cy="838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3200400" cy="16002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DAVRANIŞÇ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581280"/>
            <a:ext cx="3200400" cy="16002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BİLİŞ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88640" y="15238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y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oğrudan gözlenebilen uyarıcı ile davranışlar arasındaki</a:t>
            </a: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lişki kurma işi olarak açıklamakta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daha ç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la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larda meydana gelen değişmel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değişikliklere neden olan uyarıcılarla ilgilenirler</a:t>
            </a: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304920"/>
            <a:ext cx="73915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Times New Roman"/>
              </a:rPr>
              <a:t>DAVRANIŞÇI KURAM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7:12:28Z</dcterms:created>
  <dc:creator>KÖKSAL TOPTAN LİSESİ</dc:creator>
  <dc:description/>
  <dc:language>en-US</dc:language>
  <cp:lastModifiedBy>bkutoglu</cp:lastModifiedBy>
  <dcterms:modified xsi:type="dcterms:W3CDTF">2003-08-15T07:25:42Z</dcterms:modified>
  <cp:revision>59</cp:revision>
  <dc:subject/>
  <dc:title>MEV ANKARA ÖZEL OKULLARI</dc:title>
</cp:coreProperties>
</file>